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ECB3-836B-45E8-9556-00F785F6B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9ED4-A842-4DD5-B6FD-995DEC44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BD51-3877-4B15-883B-EA406E4E3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C3CF-B476-45AA-A4A0-A23F601B6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9BA6-46AE-467E-9841-A0CD630B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ACC1-AF20-42BC-9D64-0B8EDB95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E18A-0680-4A7B-A7D2-57C2FFEB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83A9-0454-4805-BEF1-4AEB8385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E1E2-99BF-42EA-8456-3ACF0789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B570-1807-4112-9410-C3A04CE9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8DDA-DD7B-4E76-A670-222AB9BD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F339-DF68-4240-B0C2-436241BF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DBE4-AA15-4C0C-8C50-B5082AF61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Clase 6nh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27 de febrero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45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uedes jugar béisb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EXT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the Ad  on the bottom of p. 25, in ENGLISH, tell as much as you can about what this factory manufactur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sells/mak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8 (1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8 (9-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ish the geography slid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457200" y="3124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6T17:23:06Z</dcterms:created>
  <dc:creator>Helen Zumaeta</dc:creator>
  <dc:description/>
  <dc:language>en-US</dc:language>
  <cp:lastModifiedBy>Helen Zumaeta</cp:lastModifiedBy>
  <dcterms:modified xsi:type="dcterms:W3CDTF">2013-02-27T14:22:06Z</dcterms:modified>
  <cp:revision>6</cp:revision>
  <dc:subject/>
  <dc:title>Me llamo ________ Clase 7il La fecha es el 18 de octubre del 2012</dc:title>
</cp:coreProperties>
</file>